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486-2951-4586-A2EA-9CEB9728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C57-7F8A-4061-83BB-5A7A25BB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3D0-7D91-4448-8970-4DB5B589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467-FB37-4A9A-ABAA-1005BFC5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EBC-1986-48A1-B5AA-E4B0EC1F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21A6-2DCB-4D3F-AAEF-0324434C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80C-3DDE-4E7C-8782-3299DA53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269D-0D5A-45F8-B908-1668E1A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C4D1-0DFA-4FEC-B6E6-A6C6E5EC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39A-9D6D-4952-B187-5AC5E61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2151-81C7-405D-B391-49C7EE9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83B-4F44-48C9-ADBB-978E76D8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70E-AE66-456B-8597-90F96D6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AFE-F14A-438B-82D9-A60FA45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09AF-AA0F-4679-9A7A-1B46A4E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09CB-A34C-4150-A345-29F474CD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F9DD-BAB0-470B-BB5C-570B17BD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F2E-ED5E-44FE-9DB5-FAB8489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D27-880C-4A56-B74D-2941743D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5F4-6475-4DDF-A01F-074D8E6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E40-2111-445B-B952-CA19514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533-6E9A-4DA5-9EC2-A843B8B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009-5BF8-495D-B598-188E38E5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90F-B3EB-43AD-8725-22F2BBD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8C5A-A418-45A8-9BD4-AB65FF76B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C82-E2EC-4046-9EAF-80D2E40AB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8672132-35A8-4524-99DE-E90683404E29&amp;blnFromSearch=1&amp;productcode=US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entury Schoolbook"/>
              </a:rPr>
              <a:t>Chapter 5: Physical Activity &amp; Weight Management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: Physical Fitness and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766880" cy="2264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8097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 Standard Strength Training Exercis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s leg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h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 the muscles of your upper arms and ch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l-u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cru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18874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12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urance – your ability to perform vigorous physical activity without getting overly t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basic types of endu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le endurance – measure of how long a group of muscles can exert a force without ti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and lung endurance – measure of how effectively your heart and lungs work during exercise and how quickly they return to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0" y="5410080"/>
            <a:ext cx="144792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build endurance is through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erobic exerc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nstop, rhythmic, vigorous activity that increases breathing and heartbeat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Running, biking, and swim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14223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duranc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ype i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erobic exercise –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tense physical activity that requires short bursts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Weightlifting or spri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elcome to Discovery Education P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671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lexi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lexibility – the ability to move joints fully and eas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are more naturally flexible than others, but everyone benefits from increased flex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oing regular, gentle stretching, bending, and twisting, you will feel more comfortable, improve your posture, and reduce your risk of injury during strength or endurance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os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elements of fit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ody com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wo types of endur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4419720"/>
            <a:ext cx="1770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BELL ACTIVITY – 10/26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does it take to be physically f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re some things you do in your week to keep up your level of fitnes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2295360" cy="162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1809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fitnes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tness – the ability to handle the physical work and play of everyday life without becoming overly t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ing fit also means that you have energy in reserve to meet unexpected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8050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ing fit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hink you are f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you raise your level of fit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 – physical activity that develops fi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exercise regularly, you find you are able to get through each day with energy to sp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1809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Fitness Does For Yo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more than just physical wellbe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tio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ness is an excellent way to keep your health triangle in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5639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enefits of Fitness – Fig. 5.1, p. 11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to Physical Heal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energ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risk of getting certain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performance of heart and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strength and end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freedom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weigh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131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nefits continued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o Social Heal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hances to meet new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to share common goals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ability to interact and cooperate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to use talents to help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work more effici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53400" y="304920"/>
            <a:ext cx="2190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nefits continued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o Mental/Emotional Heal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pened mental aler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laxed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njoyment of leisur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81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Elements of Fitness, p. 12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 Composition- the proportions of fat, bones, muscle, and fluid that make up body we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ngth – the ability of your muscles to exert a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itness, strength is measured by the most work your muscles can do at a given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xercising to build strength, you can more easily lift heavy objects without injury or st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59:51Z</dcterms:created>
  <dc:creator>GSCS</dc:creator>
  <dc:description/>
  <dc:language>en-US</dc:language>
  <cp:lastModifiedBy>GSCS</cp:lastModifiedBy>
  <dcterms:modified xsi:type="dcterms:W3CDTF">2010-10-26T19:37:59Z</dcterms:modified>
  <cp:revision>5</cp:revision>
  <dc:subject/>
  <dc:title>Chapter 5: Physical Activity &amp; Weight Management</dc:title>
</cp:coreProperties>
</file>